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8725-B2B7-4FA1-80B9-FD22429F1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D44F-7888-4745-8CDA-02A5AB46F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810F-8E06-48D1-9AD4-63F8ECB99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22B3-C7D9-41CF-A547-9A4CE13D0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100B-D0D5-406A-A979-BE863310E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2684-FB00-4976-A148-BAB49AF75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ABA7-6C15-4EC7-B539-371A64AA3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2033-93BC-41F9-967C-810CEAE1F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9246-91EA-4FFC-B70E-D5014BB2D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55BB-2FCE-4FD1-84A7-109E58F71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27C3-5AF8-4A31-B05B-A8AC36925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D2FC-3411-4033-ADD7-E2C4FE3BF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173-53E9-4482-9D37-5116730EB0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2650-ED76-4B03-8B8D-4A03026FD1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aking of Noticing and Wonder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www.101q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7E5-C208-4D95-8796-154B526A0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4572000" y="1600200"/>
            <a:ext cx="3657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Money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World were a Villag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fraction in as many ways as you c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each representation on a sticky note – one representation per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9ACE-EC39-4132-BEAD-699AF33002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larger groups by combining 2 smaller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up chart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ol your sticky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oup and categorize the sticky notes into whatever categories seem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each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your work for others to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7B57-EEA8-4295-B637-8FE1266C5F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at the categories of representations by the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any of the sticky notes difficult to plac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C736-3EEC-4DE4-80F3-F840228E69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oday’s Plenary Sess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. Marian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elley Year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eaning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AD97-0457-40D3-B9DC-4C012BDBE1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ggs in Pancakes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30D-C375-44F9-B2D0-7BEA136593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4" descr=""/>
          <p:cNvPicPr/>
          <p:nvPr/>
        </p:nvPicPr>
        <p:blipFill>
          <a:blip r:embed="rId1"/>
          <a:stretch/>
        </p:blipFill>
        <p:spPr>
          <a:xfrm>
            <a:off x="1596960" y="1596960"/>
            <a:ext cx="5797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Facilit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McAteer, Instructional Coach, Math, Secondary, Curriculum Services, Ottawa-Carlet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Petro, Secondary DI Numeracy Support, Windsor-Essex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, Intermediate-Senior Mathematics Consultant/Secondary Mathematics Teacher (retired), York Regi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4001-49E8-49DD-8443-128794FA0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1656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D9B5-E872-47EC-8EA3-9B1D6CE5D2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eanings and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isconceptions of fraction concepts in the Gr. 9-12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F7AB-3D40-4AB4-943F-752BA8702E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18CC-954C-468A-9F90-AA0FA58BB1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ice and Wo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students as they work with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ing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different representation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242A-C7EF-4F5F-91F7-55AA5FFFFC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icker Bar Grap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 yourself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.e. your name, where/what you teach, something abou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stickers on the posted chart paper to make a double bar 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red sticker for each course you have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een sticker for each course you will teach next year and/or each course you would like to focus on in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93CF-F7FC-4D07-A4E3-480F143922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C:\Program Files\Microsoft Office\MEDIA\OFFICE12\Bullets\BD14691_.gif"/>
          <p:cNvPicPr/>
          <p:nvPr/>
        </p:nvPicPr>
        <p:blipFill>
          <a:blip r:embed="rId1"/>
          <a:stretch/>
        </p:blipFill>
        <p:spPr>
          <a:xfrm>
            <a:off x="838080" y="43480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Program Files\Microsoft Office\MEDIA\OFFICE12\Bullets\BD10264_.gif"/>
          <p:cNvPicPr/>
          <p:nvPr/>
        </p:nvPicPr>
        <p:blipFill>
          <a:blip r:embed="rId2"/>
          <a:stretch/>
        </p:blipFill>
        <p:spPr>
          <a:xfrm>
            <a:off x="8380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nie Fetter, NCTM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50D6-5060-4B86-BD9D-555A6D5E29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your experiences with students as they work with fraction concepts – wherever and however they come up in Gr. 9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watching them, listening to them, talking to them, and reviewing thei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have you noticed?  What do you wo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few minutes to jot down some thoughts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25E5-C663-44FC-A8EC-B6A31B75EA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items from your worksheet with your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select 1 or 2 items to share with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32CA-A60A-472E-B652-1CED7E1DC1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8-19T03:58:10Z</dcterms:modified>
  <cp:revision>27</cp:revision>
  <dc:subject/>
  <dc:title>&lt;Title&gt;</dc:title>
</cp:coreProperties>
</file>